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00C-CCD3-4FCF-9BEC-2492E38D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8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0C7-C484-44B6-9627-890ED0CB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12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6D3-A885-4402-BF3D-E09FEBCA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12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12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F6B-952A-4E75-A771-8BFFBC3B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FB1-960B-4563-B1E4-4191674D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755-10C5-4A9E-B4A1-C38433F3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4C8-5038-4260-93DC-ECC2B597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C7D-1112-4B9A-84C0-2ED61AC5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26B-60A0-4823-9EB3-06187EA9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236-1216-4437-B68C-477000F9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12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4F6-1518-470A-99D7-1846284B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8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064-30D9-4285-85D4-DB158491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AE5B71-7BBE-48F2-9FDE-64F800E6E7DD}" type="slidenum"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6400" y="2924280"/>
            <a:ext cx="604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w Cen MT Condensed"/>
              </a:rPr>
              <a:t>Título da Apresent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9440" y="75564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ítulo da Apres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8760" y="1289160"/>
            <a:ext cx="880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1341360"/>
            <a:ext cx="88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eúdo da apres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5:58:14Z</dcterms:created>
  <dc:creator>Administrador</dc:creator>
  <dc:description/>
  <dc:language>en-US</dc:language>
  <cp:lastModifiedBy>Administrador</cp:lastModifiedBy>
  <dcterms:modified xsi:type="dcterms:W3CDTF">2009-06-22T16:42:27Z</dcterms:modified>
  <cp:revision>3</cp:revision>
  <dc:subject/>
  <dc:title>Slide 1</dc:title>
</cp:coreProperties>
</file>